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324-F24C-4E50-AF71-9A8E2F75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7E50-F004-4EB8-BBE6-99E0AE23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A5C-175D-4875-99AB-8F49D53A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2C4-77A5-40EE-91B4-CDB6EC07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8A4-436D-4157-BC14-3E0F97A4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19D-8F59-4AA6-9E72-F050126C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F665-BFD9-4E34-ABBA-4BCEF3DE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44B-DB5D-4DB5-A5CD-1ACB2FA6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C44-2ACC-4FB6-817F-774D2252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E72-36F6-4D88-AA80-23AE3284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EC15-BB1E-4728-8F70-CC9DF28A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A55-74F5-4B31-AABA-508255C3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FCAC-5815-4F84-BBE6-B5334CDAE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251920" y="6075360"/>
          <a:ext cx="58716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1920" y="6075360"/>
                    <a:ext cx="5871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865160" y="105084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Tipo de Alumbrado en el Hogar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98680" y="6095880"/>
            <a:ext cx="232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ENAHO 2003-200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uchos peruanos viven con velas o keros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9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448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4040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41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292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15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63920" y="1538280"/>
            <a:ext cx="4846680" cy="4038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63920" y="5459400"/>
            <a:ext cx="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63920" y="5297400"/>
            <a:ext cx="13788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63920" y="512604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63920" y="495468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63920" y="4792680"/>
            <a:ext cx="83340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63920" y="4621320"/>
            <a:ext cx="20628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63920" y="4449600"/>
            <a:ext cx="5587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63920" y="4287960"/>
            <a:ext cx="34272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63920" y="4116240"/>
            <a:ext cx="6271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63920" y="3944880"/>
            <a:ext cx="83340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63920" y="3782880"/>
            <a:ext cx="13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563920" y="3611520"/>
            <a:ext cx="90144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63920" y="3440160"/>
            <a:ext cx="9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63920" y="3278160"/>
            <a:ext cx="173340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63920" y="3106800"/>
            <a:ext cx="7635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63920" y="2935440"/>
            <a:ext cx="19382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63920" y="2773440"/>
            <a:ext cx="249696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63920" y="2602080"/>
            <a:ext cx="25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63920" y="2430360"/>
            <a:ext cx="15951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63920" y="2268360"/>
            <a:ext cx="31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63920" y="2097000"/>
            <a:ext cx="22809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563920" y="1925640"/>
            <a:ext cx="16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63920" y="1763640"/>
            <a:ext cx="15271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63920" y="1592280"/>
            <a:ext cx="33973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33760" y="545940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01800" y="5297400"/>
            <a:ext cx="35244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75040" y="5126040"/>
            <a:ext cx="2160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75040" y="495468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97320" y="4792680"/>
            <a:ext cx="34128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70200" y="4621320"/>
            <a:ext cx="968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22640" y="4449600"/>
            <a:ext cx="6843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06640" y="4287960"/>
            <a:ext cx="9702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91040" y="4116240"/>
            <a:ext cx="6858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97320" y="3944880"/>
            <a:ext cx="7617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76840" y="3782880"/>
            <a:ext cx="282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65360" y="3611520"/>
            <a:ext cx="76392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33760" y="3440160"/>
            <a:ext cx="83196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97320" y="3278160"/>
            <a:ext cx="20484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27480" y="3106800"/>
            <a:ext cx="1733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02160" y="293544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060880" y="2773440"/>
            <a:ext cx="684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29280" y="260208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430360"/>
            <a:ext cx="16542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76840" y="2268360"/>
            <a:ext cx="1364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44880" y="2097000"/>
            <a:ext cx="132084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29280" y="1925640"/>
            <a:ext cx="25542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91040" y="1763640"/>
            <a:ext cx="2838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61240" y="1592280"/>
            <a:ext cx="9680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5639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259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9448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6404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341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0292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715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4106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639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35120" y="55767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94440" y="56847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1546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390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342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2972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248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092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044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17600" y="54421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45960" y="527040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016360" y="509904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76560" y="493704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49560" y="476568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46160" y="459432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23080" y="443232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44280" y="42609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154960" y="408924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16400" y="392760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00280" y="37558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64240" y="358452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12960" y="342252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93480" y="3251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8960" y="307980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4760" y="29178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27000" y="27464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040" y="257508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50480" y="241308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10320" y="22417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63360" y="207000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76160" y="190800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4040" y="173664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47160" y="156528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2971800"/>
            <a:ext cx="1143000" cy="685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745400" y="3106800"/>
            <a:ext cx="115920" cy="104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923960" y="3070080"/>
            <a:ext cx="71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43960" y="3435480"/>
            <a:ext cx="118800" cy="104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927200" y="3398760"/>
            <a:ext cx="32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79760" y="15462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6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95360" y="238428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47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57400" y="17208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mparación entre fuentes de energía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3000" y="4175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A Consulting – Mayo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28944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Un tipo de energía mucho más costosa que la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31880" y="2570040"/>
            <a:ext cx="164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ocos incandesc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2400" y="2570040"/>
            <a:ext cx="147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mparín 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90720" y="257004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99560" y="3059280"/>
            <a:ext cx="120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sto Pro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91200" y="3251160"/>
            <a:ext cx="134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tv sol / hora / 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66040" y="375768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32080" y="37576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75920" y="37576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19520" y="37576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45240" y="3160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0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69016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71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17444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734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19480" y="2438280"/>
            <a:ext cx="1440" cy="44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19480" y="2438280"/>
            <a:ext cx="12600" cy="4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0228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0228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789600" y="2452680"/>
            <a:ext cx="1296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07084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07084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3057480"/>
            <a:ext cx="1440" cy="39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19320" y="3057480"/>
            <a:ext cx="14040" cy="39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194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19480" y="3071880"/>
            <a:ext cx="126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022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0228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89600" y="3071880"/>
            <a:ext cx="1296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7084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084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194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19480" y="3646440"/>
            <a:ext cx="126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022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0228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9600" y="3646440"/>
            <a:ext cx="1296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084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7084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19320" y="3632040"/>
            <a:ext cx="1440" cy="430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9320" y="3632040"/>
            <a:ext cx="14040" cy="43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32080" y="2438280"/>
            <a:ext cx="485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32080" y="2438280"/>
            <a:ext cx="48531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32080" y="2865600"/>
            <a:ext cx="485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232080" y="2865600"/>
            <a:ext cx="48531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33360" y="305748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33360" y="305748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33360" y="344016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33360" y="344016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3360" y="363204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233360" y="363204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33360" y="404820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33360" y="4048200"/>
            <a:ext cx="685188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09680" y="4724280"/>
            <a:ext cx="5486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“</a:t>
            </a: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La iluminación con velas es 210 veces más cara que con focos incandescentes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088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I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8080" y="2134800"/>
            <a:ext cx="73152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Se necesitan más de US$ 5 500 millones para cubrir la brecha en infraestructura en el sector eléctr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2160" y="275400"/>
            <a:ext cx="731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¿Qué hac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43000" y="12193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66"/>
                </a:solidFill>
                <a:latin typeface="Tahoma"/>
              </a:rPr>
              <a:t>Evolución del Precio Medio Residencial y la Potencia Instal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71600" y="104760"/>
            <a:ext cx="6781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una retribución adecuada puede garantizar la continuidad de las inversion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14840" y="559260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16200000">
            <a:off x="163080" y="3218760"/>
            <a:ext cx="14590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Tarifa Residen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ctv US$ / kW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42120" y="614376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Fuente: G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270760" y="6019920"/>
            <a:ext cx="227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Cifra calculada sobre año base: 19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21572400">
            <a:off x="8298000" y="2799000"/>
            <a:ext cx="198360" cy="15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Potencia</a:t>
            </a: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Instala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801800" y="459252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01800" y="41385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01800" y="367668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801800" y="3220920"/>
            <a:ext cx="5757840" cy="32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01800" y="275760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801800" y="230364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01800" y="18381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00360" y="1838160"/>
            <a:ext cx="1440" cy="32194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01800" y="5057640"/>
            <a:ext cx="5757840" cy="18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2390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7050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303696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35124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36813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9956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325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6544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49719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299200" y="5057280"/>
            <a:ext cx="288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61672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9450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62611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658980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69055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19400" y="4687920"/>
            <a:ext cx="328680" cy="195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48080" y="4294080"/>
            <a:ext cx="330120" cy="588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878200" y="4233600"/>
            <a:ext cx="314280" cy="60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192480" y="3436920"/>
            <a:ext cx="330120" cy="797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22600" y="3436920"/>
            <a:ext cx="292320" cy="330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74760" y="4654440"/>
            <a:ext cx="85680" cy="637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37" y="19"/>
                </a:lnTo>
                <a:lnTo>
                  <a:pt x="19" y="37"/>
                </a:lnTo>
                <a:lnTo>
                  <a:pt x="0" y="19"/>
                </a:lnTo>
                <a:lnTo>
                  <a:pt x="19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05240" y="4851360"/>
            <a:ext cx="8712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36800" y="4262400"/>
            <a:ext cx="82440" cy="6192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51080" y="4200480"/>
            <a:ext cx="8568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81560" y="3405240"/>
            <a:ext cx="83880" cy="6336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410480" y="45115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410480" y="40561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410480" y="359100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6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10480" y="31370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15080" y="26733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15080" y="2220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315080" y="1755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283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5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787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01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315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7458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076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9056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22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36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668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69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11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32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74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9876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62880" y="1854360"/>
            <a:ext cx="3240" cy="32176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7545240" y="50320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787880" y="49417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787880" y="448164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6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84640" y="4032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784640" y="35719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9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724160" y="312264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1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24160" y="26622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724160" y="221292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4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724160" y="175248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5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7504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40336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7176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0430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3357720" y="5067360"/>
            <a:ext cx="288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6860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0114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3257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46544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9798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52941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56228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59371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626436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65912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9055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841920" y="3024360"/>
            <a:ext cx="328320" cy="75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4170240" y="2480760"/>
            <a:ext cx="325440" cy="5432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495680" y="2358720"/>
            <a:ext cx="314280" cy="122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9960" y="2359080"/>
            <a:ext cx="3286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38640" y="2390760"/>
            <a:ext cx="327240" cy="372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465880" y="2763720"/>
            <a:ext cx="314280" cy="986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780160" y="2739960"/>
            <a:ext cx="326880" cy="12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107040" y="2708280"/>
            <a:ext cx="3142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421320" y="2708280"/>
            <a:ext cx="327240" cy="193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6748560" y="2836440"/>
            <a:ext cx="326880" cy="651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01960" y="375444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30640" y="30002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456080" y="2455920"/>
            <a:ext cx="7956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70360" y="233532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099040" y="23684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425920" y="2739960"/>
            <a:ext cx="7812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40560" y="2836800"/>
            <a:ext cx="777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67440" y="2716200"/>
            <a:ext cx="7920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381720" y="2682720"/>
            <a:ext cx="7776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37280" y="2811600"/>
            <a:ext cx="76320" cy="507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719760" y="2867040"/>
            <a:ext cx="7632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30560" y="3716280"/>
            <a:ext cx="3189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549520" y="3695400"/>
            <a:ext cx="3333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882880" y="3695760"/>
            <a:ext cx="3207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3203640" y="3686040"/>
            <a:ext cx="318960" cy="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3522600" y="3587400"/>
            <a:ext cx="319320" cy="9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841920" y="3528720"/>
            <a:ext cx="31896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160880" y="3470040"/>
            <a:ext cx="33480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4495680" y="3332160"/>
            <a:ext cx="319320" cy="13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815000" y="2959200"/>
            <a:ext cx="318960" cy="37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133960" y="273384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452920" y="2576160"/>
            <a:ext cx="335160" cy="15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788080" y="235116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107040" y="2351160"/>
            <a:ext cx="319320" cy="1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6426360" y="2438280"/>
            <a:ext cx="318960" cy="2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6745320" y="2389320"/>
            <a:ext cx="309600" cy="4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8448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50344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38600" y="366552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5756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476520" y="3656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95840" y="35593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16240" y="3500280"/>
            <a:ext cx="90720" cy="590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49600" y="3440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768920" y="33037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089680" y="2930400"/>
            <a:ext cx="91800" cy="5904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408640" y="2705040"/>
            <a:ext cx="92160" cy="586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742000" y="2546280"/>
            <a:ext cx="93600" cy="604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62760" y="2320920"/>
            <a:ext cx="9180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81720" y="2428920"/>
            <a:ext cx="9216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0680" y="2411280"/>
            <a:ext cx="921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02000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29040" y="553248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321880" y="5516640"/>
            <a:ext cx="142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ahoma"/>
              </a:rPr>
              <a:t>Potencia Instal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43120" y="5578560"/>
            <a:ext cx="53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335040" y="5502240"/>
            <a:ext cx="98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Reside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857680" y="551808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7229520" y="505260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11600" y="51674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7229520" y="506268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086600" y="2751120"/>
            <a:ext cx="285840" cy="936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19880" y="2733840"/>
            <a:ext cx="76320" cy="489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240" bIns="3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068960" y="2390760"/>
            <a:ext cx="309600" cy="1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30584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990720" y="2402640"/>
            <a:ext cx="73152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romoviendo con la energía eléc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 desarrollo de los pueb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90720" y="1219320"/>
            <a:ext cx="7696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Alumnos Aprobados en Primaria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 energía eléctrica, mejoramos la educación de los peru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76720" y="56386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Alumnos aprobados en prim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rot="16200000">
            <a:off x="876600" y="3388680"/>
            <a:ext cx="12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00480" y="1927080"/>
            <a:ext cx="5238720" cy="32497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400480" y="5176800"/>
            <a:ext cx="523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146480" y="51764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89284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63920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735360" y="3749760"/>
            <a:ext cx="9036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032360" y="34369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43200" y="337500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938920" y="210348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244680" y="3249720"/>
            <a:ext cx="9072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40200" y="46036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08600" y="3238560"/>
            <a:ext cx="9180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473280" y="3624120"/>
            <a:ext cx="9072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7"/>
                </a:lnTo>
                <a:lnTo>
                  <a:pt x="28" y="53"/>
                </a:lnTo>
                <a:lnTo>
                  <a:pt x="0" y="27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073320" y="44481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846760" y="2562120"/>
            <a:ext cx="92160" cy="8280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95880" y="2521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797360" y="29685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8" y="0"/>
                </a:moveTo>
                <a:lnTo>
                  <a:pt x="57" y="26"/>
                </a:lnTo>
                <a:lnTo>
                  <a:pt x="28" y="52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3320" y="24685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21440" y="1927080"/>
            <a:ext cx="90360" cy="8280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66960" y="398952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081760" y="3416400"/>
            <a:ext cx="9180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5000" y="245736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094360" y="35305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56120" y="3448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56120" y="39574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02240" y="39052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83160" y="199872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86520" y="245736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065480" y="3384720"/>
            <a:ext cx="9216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119400" y="2270160"/>
            <a:ext cx="3309840" cy="19382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021040" y="50943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21040" y="4687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21040" y="42814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21040" y="38750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21040" y="3468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21040" y="30621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21040" y="2655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21040" y="22496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945440" y="18432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8312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0294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7772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93760" y="5291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93880" y="46022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51840" y="4114800"/>
            <a:ext cx="54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81456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18200" y="320040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554880" y="1981080"/>
            <a:ext cx="488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17760" y="160020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0840" y="205740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80040" y="3687840"/>
            <a:ext cx="110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91336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442040" y="3505320"/>
            <a:ext cx="43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generamos más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2949480" y="1066680"/>
            <a:ext cx="3527640" cy="48308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2133720" y="5924520"/>
            <a:ext cx="5181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9900"/>
                </a:solidFill>
                <a:latin typeface="Tahoma"/>
              </a:rPr>
              <a:t>Energía eléctrica: Principal Materia Pr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38080" y="274392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¿Nos ponemos a trabajar todos ju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Sudamericana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12920" y="459108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2920" y="392436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12920" y="324792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2920" y="258120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2920" y="1905120"/>
            <a:ext cx="5156280" cy="33620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5200" y="2104920"/>
            <a:ext cx="20808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1440" y="2104920"/>
            <a:ext cx="20772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552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0996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24400" y="2305080"/>
            <a:ext cx="218880" cy="29620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0000" y="2514600"/>
            <a:ext cx="207720" cy="27525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4080" y="2581200"/>
            <a:ext cx="208080" cy="26859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78520" y="3048120"/>
            <a:ext cx="208080" cy="22190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92960" y="3514680"/>
            <a:ext cx="207720" cy="17524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07400" y="4257720"/>
            <a:ext cx="207720" cy="10094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12920" y="1905120"/>
            <a:ext cx="1800" cy="336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68640" y="526716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68640" y="45910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68640" y="39243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68640" y="32479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68640" y="258120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8640" y="190512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129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27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2418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5588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2703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79592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310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82444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3888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85476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3692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036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4480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5888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332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8920" y="21049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13000" y="2314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27440" y="23814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41880" y="28479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6320" y="33148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70400" y="40575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57960" y="519120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57960" y="45147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57960" y="38480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57960" y="31719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57960" y="25052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84520" y="1828800"/>
            <a:ext cx="36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4920" y="534348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59680" y="5578560"/>
            <a:ext cx="6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8040" y="5343480"/>
            <a:ext cx="76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72880" y="557856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5343480"/>
            <a:ext cx="78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98440" y="5578560"/>
            <a:ext cx="71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8040" y="5343480"/>
            <a:ext cx="61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88440" y="557856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1080" y="534348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8280" y="55627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89440"/>
            <a:ext cx="76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omos uno de los países con menor cobertura elé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12636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NUD y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894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la cobertura eléctrica está asociada a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27400" y="1866960"/>
            <a:ext cx="5040360" cy="3247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27400" y="5114880"/>
            <a:ext cx="504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9592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5910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2210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531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4738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056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7356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3677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96000" y="318132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95960" y="3228840"/>
            <a:ext cx="82440" cy="7632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73960" y="33051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03800" y="33717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64200" y="33908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7800" y="3857760"/>
            <a:ext cx="82440" cy="7596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50160" y="27813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96000" y="271476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50160" y="28670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9400" y="341964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959200" y="3009960"/>
            <a:ext cx="4032000" cy="88560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21320" y="5038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21320" y="43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21320" y="3743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1320" y="3086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21320" y="2438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21320" y="17906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276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5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8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16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534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7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0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62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41040" y="52578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5960" y="55627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12585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ID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60680" y="4038480"/>
            <a:ext cx="76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2280" y="3048120"/>
            <a:ext cx="762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ff3300"/>
                </a:solidFill>
                <a:latin typeface="Tahoma"/>
              </a:rPr>
              <a:t>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70360" y="3519360"/>
            <a:ext cx="1173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27760" y="26208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18280" y="236232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344340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306216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6880" y="4861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=0.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2833560"/>
            <a:ext cx="111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Evolución Cobertura Eléctrica Per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8944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los últimos 4 años, se ha avanzado poco en cobertura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98520" y="44751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8520" y="35607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8520" y="265752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98520" y="1741320"/>
            <a:ext cx="569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8520" y="1741320"/>
            <a:ext cx="5696280" cy="3638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7920" y="3149640"/>
            <a:ext cx="204840" cy="22305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62360" y="3022560"/>
            <a:ext cx="217440" cy="23576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87600" y="2976480"/>
            <a:ext cx="206640" cy="24037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02040" y="2908440"/>
            <a:ext cx="206280" cy="2471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7920" y="2828880"/>
            <a:ext cx="204840" cy="25513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2760840"/>
            <a:ext cx="217440" cy="26193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57960" y="2703600"/>
            <a:ext cx="206280" cy="267660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72040" y="2657520"/>
            <a:ext cx="206640" cy="27226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88280" y="2646360"/>
            <a:ext cx="204480" cy="27338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2360" y="2611440"/>
            <a:ext cx="217440" cy="2768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27960" y="2600280"/>
            <a:ext cx="206280" cy="27799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8520" y="1741320"/>
            <a:ext cx="1800" cy="363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52800" y="53802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52800" y="44751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52800" y="35607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52800" y="2657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52800" y="174132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19852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1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24000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75444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6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78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1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82444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33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332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38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89480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59440" y="29192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1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2600" y="27939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68880" y="27478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02400" y="2679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8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6840" y="25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0000" y="25146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2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3520" y="24732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3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0720" y="2428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4240" y="24163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07400" y="2382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83680" y="23716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5288040"/>
            <a:ext cx="18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6640" y="43848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6640" y="34686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6640" y="2565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0320" y="165096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2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3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642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9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2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720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616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7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9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4080" y="289440"/>
            <a:ext cx="88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sultado: 7 millones de peruanos que no cuentan con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0528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783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3556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86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8308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561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403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137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882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30440" y="5381640"/>
            <a:ext cx="167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30440" y="5214960"/>
            <a:ext cx="18097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30440" y="5049720"/>
            <a:ext cx="23036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30440" y="4884840"/>
            <a:ext cx="238752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4718160"/>
            <a:ext cx="2616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30440" y="4552920"/>
            <a:ext cx="2862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30440" y="4387680"/>
            <a:ext cx="292896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30440" y="4221000"/>
            <a:ext cx="2967120" cy="78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30440" y="4056120"/>
            <a:ext cx="2967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30440" y="3889440"/>
            <a:ext cx="30132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30440" y="3724200"/>
            <a:ext cx="31464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30440" y="3559320"/>
            <a:ext cx="316548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30440" y="3403440"/>
            <a:ext cx="3184560" cy="66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0440" y="3238560"/>
            <a:ext cx="32418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30440" y="3073320"/>
            <a:ext cx="32702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30440" y="2906640"/>
            <a:ext cx="3535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30440" y="2741760"/>
            <a:ext cx="401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30440" y="2575080"/>
            <a:ext cx="4084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30440" y="2409840"/>
            <a:ext cx="4113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30440" y="2244600"/>
            <a:ext cx="41324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30440" y="2077920"/>
            <a:ext cx="41990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30440" y="1913040"/>
            <a:ext cx="45291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30440" y="1747800"/>
            <a:ext cx="46436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1581120"/>
            <a:ext cx="47196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30440" y="5502240"/>
            <a:ext cx="475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3044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0528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4783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9625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43556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086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8308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8561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403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8137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2882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11360" y="55022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1360" y="53370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1360" y="51721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1360" y="50054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1360" y="4840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1360" y="4675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11360" y="4508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1360" y="4343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1360" y="41767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1360" y="40114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1360" y="38466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1360" y="36799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1360" y="35146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1360" y="33591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1360" y="31939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11360" y="3029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11360" y="28623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11360" y="26971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11360" y="2532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1360" y="2365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1360" y="2200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1360" y="2033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1360" y="18684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1360" y="170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1360" y="15368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81480" y="560232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325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05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98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628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3732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103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52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67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424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92080" y="560232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10800" y="5392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1040" y="5226120"/>
            <a:ext cx="50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66400" y="506088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14400" y="4896000"/>
            <a:ext cx="62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32760" y="472932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13920" y="4564080"/>
            <a:ext cx="29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7320" y="4398840"/>
            <a:ext cx="30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22880" y="4232160"/>
            <a:ext cx="81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95120" y="4067280"/>
            <a:ext cx="41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13480" y="3900600"/>
            <a:ext cx="41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89280" y="3735360"/>
            <a:ext cx="55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93040" y="3570120"/>
            <a:ext cx="32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65000" y="3403440"/>
            <a:ext cx="76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94120" y="3238560"/>
            <a:ext cx="334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53640" y="3073320"/>
            <a:ext cx="55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88840" y="2906640"/>
            <a:ext cx="64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2741760"/>
            <a:ext cx="29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8280" y="257508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19000" y="2409840"/>
            <a:ext cx="73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6360" y="22446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59720" y="2077920"/>
            <a:ext cx="17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0960" y="1913040"/>
            <a:ext cx="52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98080" y="1747800"/>
            <a:ext cx="33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58920" y="158112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106668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por Departamentos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3048120"/>
            <a:ext cx="56386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16720" y="1828800"/>
            <a:ext cx="1422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Sólo 9 departamentos tienen una cobertura mayor al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INE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03840"/>
            <a:ext cx="9220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en el 2002, habían 6.5 millones de peruanos en extrema pobrez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111132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Población en Extrema Pobreza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592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497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308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1196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92720" y="1601640"/>
            <a:ext cx="180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8500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66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78120" y="1601640"/>
            <a:ext cx="4788000" cy="39992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78120" y="5487840"/>
            <a:ext cx="2620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78120" y="5322960"/>
            <a:ext cx="4078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78120" y="5148360"/>
            <a:ext cx="47160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78120" y="4983120"/>
            <a:ext cx="4809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78120" y="4818240"/>
            <a:ext cx="722160" cy="6156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778120" y="4653000"/>
            <a:ext cx="77472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78120" y="4487760"/>
            <a:ext cx="1120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78120" y="4322880"/>
            <a:ext cx="1476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8120" y="4148280"/>
            <a:ext cx="152892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78120" y="3983040"/>
            <a:ext cx="1633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78120" y="3817800"/>
            <a:ext cx="16444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78120" y="3652920"/>
            <a:ext cx="17064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78120" y="3487680"/>
            <a:ext cx="19162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78120" y="3324240"/>
            <a:ext cx="20318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78120" y="3147840"/>
            <a:ext cx="220032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78120" y="2982960"/>
            <a:ext cx="23781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78120" y="2817720"/>
            <a:ext cx="27860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78120" y="2654280"/>
            <a:ext cx="28605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78120" y="2489040"/>
            <a:ext cx="29862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78120" y="2324160"/>
            <a:ext cx="34052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78120" y="2147760"/>
            <a:ext cx="351936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78120" y="1984320"/>
            <a:ext cx="3519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78120" y="181944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78120" y="165420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78120" y="5600880"/>
            <a:ext cx="478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778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4592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1497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8308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51196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192720" y="560088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88500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566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78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55800" y="5600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55800" y="54356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55800" y="527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55800" y="50958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55800" y="4930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55800" y="47656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55800" y="46022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55800" y="443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55800" y="427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55800" y="40957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55800" y="39322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55800" y="37670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55800" y="360216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55800" y="3436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55800" y="32716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55800" y="30970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55800" y="293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55800" y="276696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55800" y="26020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55800" y="24368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55800" y="22716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55800" y="209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55800" y="193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55800" y="1766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55800" y="16016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10080" y="571500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642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56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376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83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9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917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7252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00120" y="54673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29920" y="530208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95880" y="51372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98880" y="496260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22120" y="47973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2560" y="463248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83080" y="446724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1440" y="43020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68400" y="413712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36520" y="396252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32360" y="379728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95480" y="36320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1960" y="3467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52600" y="33037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24880" y="313848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17680" y="296244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4920" y="279720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75400" y="26337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246852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61600" y="230364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63520" y="21384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13840" y="196380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52560" y="176688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30120" y="160020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288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¿Notamos la rel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259092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7 mill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sin 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2573280"/>
            <a:ext cx="4114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6.5 millones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2743200"/>
            <a:ext cx="974880" cy="853920"/>
          </a:xfrm>
          <a:prstGeom prst="leftRightArrow">
            <a:avLst>
              <a:gd name="adj1" fmla="val 50000"/>
              <a:gd name="adj2" fmla="val 22727"/>
            </a:avLst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0200" y="1187280"/>
            <a:ext cx="647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Extrema Pobreza 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in cobertura eléctrica, se agudiza la extrema 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55926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83844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16320" y="1976400"/>
            <a:ext cx="5030640" cy="313056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1399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8527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5752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2880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0120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7248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44696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89240" y="3736800"/>
            <a:ext cx="9072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00400" y="34354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68880" y="3376440"/>
            <a:ext cx="88920" cy="7812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86000" y="2151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78400" y="32590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68880" y="4562640"/>
            <a:ext cx="88920" cy="7776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70440" y="32400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02560" y="361944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02560" y="44067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68480" y="258912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08640" y="25495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19680" y="2978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76560" y="2502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54280" y="19764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99200" y="39607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46360" y="34052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9120" y="2492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78200" y="35226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83000" y="34448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54760" y="3930480"/>
            <a:ext cx="9036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68800" y="38829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00440" y="20448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79640" y="24922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02240" y="33861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98920" y="2433600"/>
            <a:ext cx="4149720" cy="18385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41920" y="50292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41920" y="4640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41920" y="42512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41920" y="3852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41920" y="3463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41920" y="3075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41920" y="2685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41920" y="22874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7400" y="189864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41800" y="52149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26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37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611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739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964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092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328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93360" y="169236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656400" y="45878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504760" y="472428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9404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78160" y="365760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9072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14600" y="4800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1187280"/>
            <a:ext cx="708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y PNU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mpidiendo mejoras en e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3920" y="55926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Desarrollo Hum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6200000">
            <a:off x="76356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6360" y="1820880"/>
            <a:ext cx="5153040" cy="3313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76360" y="5133960"/>
            <a:ext cx="515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66552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95288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24204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752940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39960" y="3662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65720" y="325764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65360" y="3279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91160" y="200484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44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02080" y="443880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3000" y="3083040"/>
            <a:ext cx="9972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5288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01920" y="4392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03840" y="224964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40200" y="24224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16360" y="2874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0372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16760" y="1820880"/>
            <a:ext cx="9972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40200" y="3917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16520" y="332568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53000" y="2330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791240" y="3373560"/>
            <a:ext cx="9972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0160" y="3360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5640" y="3882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40200" y="3836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42000" y="187812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1660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27640" y="3303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201840" y="1924200"/>
            <a:ext cx="2963880" cy="2178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59480" y="5041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59480" y="46245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59480" y="4218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59480" y="3801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59480" y="3384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59480" y="2967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59480" y="2562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59480" y="21448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75600" y="1727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752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640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517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405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42824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3720" y="155412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42760" y="464832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2000" y="434340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48360" y="327672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51640" y="196524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13680" y="3429000"/>
            <a:ext cx="79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01920" y="403848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5:58:17Z</dcterms:created>
  <dc:creator>pe10301882</dc:creator>
  <dc:description/>
  <dc:language>en-US</dc:language>
  <cp:lastModifiedBy>pe10301882</cp:lastModifiedBy>
  <dcterms:modified xsi:type="dcterms:W3CDTF">2005-10-25T15:44:23Z</dcterms:modified>
  <cp:revision>1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0362096</vt:r8>
  </property>
  <property fmtid="{D5CDD505-2E9C-101B-9397-08002B2CF9AE}" pid="3" name="_AuthorEmail">
    <vt:lpwstr>deguchi@comexperu.org.pe</vt:lpwstr>
  </property>
  <property fmtid="{D5CDD505-2E9C-101B-9397-08002B2CF9AE}" pid="4" name="_AuthorEmailDisplayName">
    <vt:lpwstr>Daniel Eguchi</vt:lpwstr>
  </property>
  <property fmtid="{D5CDD505-2E9C-101B-9397-08002B2CF9AE}" pid="5" name="_EmailSubject">
    <vt:lpwstr>Presentacion sr. blanco</vt:lpwstr>
  </property>
</Properties>
</file>